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621-7F54-4B60-8D4F-DA266FA5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6B1-E5BF-4DE3-A78A-38EC61E1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A9C-E58C-4251-B463-006DED5D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6F1-AD5E-4765-A295-0476B844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0196-3E4E-4D5D-A176-C860170E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9282-4CE4-4813-B915-7DB7EE3E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FD82-B3C6-4254-B441-BFABD623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5726-5B02-4C15-BC49-AC779214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2B51-2AA3-44C9-BF15-FC062000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5B0A-4440-4CCB-AC4D-03ADD277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81E0-BBAE-4B45-9C96-F551038D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F2C-4498-4281-919C-671E0D0D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FA2D-829F-4AE6-BEA5-93B18945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E178-D2DD-4ED0-8CAF-1FFFADF7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B71A-DFBC-45D1-B447-C9B8A4BE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90C8-C2DA-4E65-984E-ABC40912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F487-1A8B-42BF-8F3B-C549CC6A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749-B007-43F1-86A1-FAECA401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152-1060-43C1-9B17-DC857362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8A6-178D-4DD4-A0DD-A1204585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570-8676-4653-9579-6347786B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AFD-8785-42FA-8C0B-07FB3FF0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30A-F846-4029-B353-168EF585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D8D-3F87-4196-BF14-BA8399BF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CBB8-8C7C-4B94-A32D-029E2C7D76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AAAF-B19F-4CF6-8999-CE1EBF4F40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Lakota Trib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Spiritual Belief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kota Tribe would pray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kan Tanka, the Great Spirit which was the spirit of the East, West, North and South, Mother Earth, and to the Six Dir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at Spirit represented the unity of all spirits as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imes the men in the tribe would pray in solitude for days at a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290340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86520" y="6276960"/>
            <a:ext cx="305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snoedel.punt.nl/upload/pla.0/mini-Sioux-Courtship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324480" cy="4311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ransporta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71800" y="2209320"/>
            <a:ext cx="5943600" cy="441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ibe had horses by the mid 1700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used these to travel and hunt buffalo witch they depended heavily 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able to travel longer distances than any other Lakota trib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long distance travels, the tribe used a travois, which is the French word for shafts of a ca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rts were made out of a cart with two wooden pole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ravel by water they used boats covered in bark and buffalo h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800600"/>
            <a:ext cx="220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sharonsharpe.com/images/travois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Nam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00600" cy="441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oux Tribe has many different names such as, Nakota, Dakota, and Lako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ota means “people of the forest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kota means “friend” or “al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601992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images.google.com/imgres?imgurl=http://bp3.blogger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errito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kota live in the Great Plains (sometimes referred to as the Plain Indians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e in the northern forests and along the Mississippi River in Minnesot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Territory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14600" y="685800"/>
          <a:ext cx="624852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85800"/>
                    <a:ext cx="624852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1600" y="1857240"/>
            <a:ext cx="216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hazelb.co.uk/sites/haukola/images/sioux_tribe1.g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nvironment/landscap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42900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live on the North and South Dakota border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landscape of the Lakota tribe was mostly of plai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enever they moved around, they were fairly near the Missouri Rive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521240" cy="3138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257800"/>
            <a:ext cx="505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standingrock.org/image/cache/rockflag1.g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Food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5079960" cy="3810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6386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ose, Deer, Elk, Muskrats, Badgers, Otters, Raccoons, Fish, Buffalo, Pigeons, Cranes, Ducks, and Geese depending on the seas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Lakota Ga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n, Pumpkins, Beans, Melons, “Dakota Turni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609588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images.google.com/imgres?imgurl=http://bp0.blogger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othing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2998800" cy="4038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619760" cy="4952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ffalo hides were used to mak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es, Tipi covers, clothing, moccasins, Bags, and Carrying cas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r and Elk were also used to make clot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men used beads and bones and other natural objects that they thought were beautiful to decorate their cloth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wo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esses and legg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wo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rts and breechcloth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609588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turtletrack.org/Issues01/Co05192001/Art/Warshirt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Housing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lived in tip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ipis could be moved easily so that they could follow the buffal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ould sometimes take 16-18 buffalo hides sewn together to cover one t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ver was held together by wooden p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would be a whole in the top to allow smoke to leave the tipi so that fires could be built insid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was a smoke flap that would control the temperature inside and keep rain and snow ou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311616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791320" y="603252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images.google.com/imgres?imgurl=http://www.sonofthesouth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Spiritual Belief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41148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kota believe that everything has its own spirit that could change and show itself in a different w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d ceremonies which were centered around one certain spir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Dance is a regular custom that takes place before each buffalo hu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4952880" cy="2962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62720" y="5486400"/>
            <a:ext cx="227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deathreference.com/images/medd_01_img0058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7:39:26Z</dcterms:created>
  <dc:creator>Yarmouth Schools</dc:creator>
  <dc:description/>
  <dc:language>en-US</dc:language>
  <cp:lastModifiedBy>Amy Bongard</cp:lastModifiedBy>
  <dcterms:modified xsi:type="dcterms:W3CDTF">2009-09-03T14:20:55Z</dcterms:modified>
  <cp:revision>11</cp:revision>
  <dc:subject/>
  <dc:title>Dakota, Sioux, Lakota Tribes</dc:title>
</cp:coreProperties>
</file>